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322-23D3-492D-92EA-E217BB96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870D-17E4-4294-8AEE-3EFBCD2B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131-CDC4-40EC-BA16-4C22FD26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567-BF9B-4D04-9AD5-01DAE700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6609-C3AF-49C7-952B-08E1A7E2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0C43-4D2C-4B9B-99E1-864F90D9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5CD7-2A86-4F3F-9493-FE28D58D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7AC5-A761-4648-B0F7-AB0AF3D1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C270-46E3-48A9-BAF3-83F297A5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C61B-002C-44DF-BE0D-05DDFDFA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6E56-CE27-46A3-86F8-2061B1E4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E81-94F0-421F-A52F-922E0D01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D511-EDCE-4D7A-A67B-BC7DF039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02FC-A31C-4C8E-8215-76EAB16C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7B3D-8DC5-4536-876E-53BE6553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C01E-1ECD-4478-9BAA-552A1F89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1029-3911-4C4D-8C95-0C67E3FD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4C103-810E-48FA-88F0-58842627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5C8AF-5DD3-471D-B5AC-BE10310A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AA94D-E6C9-4845-98FA-CBCA8C23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BC991-A228-4555-811E-C44BD088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9950C-8830-4491-A438-CFAB69A2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A0D-85E2-4142-808F-F65CDE04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FFABA-D816-4B09-90D7-270808B2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0A84E-2092-427E-9494-C2BD3ABD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71526-3FF2-4B09-9EAF-F9A8297B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E8F05-FA92-4BAA-A5AB-6A9736DF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97082-3FA5-40CA-A3E4-0189A65B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401DB-8E8B-4945-BC1E-9099554D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2CE07-FD1B-4BE4-BA9A-CE94AD30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EF8C9-9910-4F99-B603-3F111789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3D40C-7AA7-46A7-B175-14F567C9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86654-CD5F-4DA0-8AF2-0A8D34F5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F16-6B69-44A6-8C12-BCEB9514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92B99-932A-4109-BF84-4F919109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CA672-4D36-4E02-BC1E-6FC12D42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DA2A9-2058-4E82-95EB-6E2EF066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BDFC0-458B-4B54-A41F-73E09084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C81B4-F084-4DD8-BF6C-0BF6B715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D910A-B1DA-4B1C-8991-A5117B71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9B165-0E4A-4CA9-A615-A717E616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3CF3B-9945-4FC1-8A65-4853F731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37D2B-A33F-421D-9D0E-E3411D24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07FD1-2539-4A53-B20B-38C82686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965-1F46-4265-8329-01E30C22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49D1B-D798-4321-A89B-4A01DF3E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3CB15-C1A4-438A-8A7A-212F2071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78099-2148-47F8-9254-45E42BF9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488D1-FA7E-45A4-B328-E81067B1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ECB31-8F98-41F5-9942-63732681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360AD-132C-4D69-8FD1-03FB553A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19223-F875-45B2-A3D3-070EA6E4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424EC-D902-45E5-9869-5250E273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75EE3-2BEA-4CE1-B50C-9EEC3483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507BE-E688-4F1C-8365-F6520D11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EE0-758D-4D90-B9F5-27A2E9CC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D8326-6398-45AA-B8FC-801126B1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BD687-E1A6-448C-8953-EB57C99B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77A3C-0638-4AFE-B4EE-0B57A59E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82E7D-FFE1-459B-BBE8-AC1090DB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7E6FF-F9B7-4973-9E97-A14CC42B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391C1-B0C0-4AA7-B1CE-062C83C0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4225F-0C7E-46B2-8978-72E2FDC0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AA1DC-E619-456B-A430-9DE807BD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EDB20-6FAF-459D-B288-9A17F9EF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ACCE0-5A8A-4DD7-8EDE-A0919653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F43-33AD-4D08-A7C5-E00EBDBB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3F1F7-2A85-45DC-96E1-482AC0DC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45EE0-B803-4C9F-9A9F-0656F929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6A6F5-4071-47DA-811C-F30EE892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7D1B-2E8E-4600-9444-7D031C6C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3F86-2E20-4DD4-8ECC-3285B496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B466-5DDF-41DC-B0B9-935269D188E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7738-194E-4DD2-9C28-3EF8D30186B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1AAA-6CDD-425A-830B-CA51DB70CD7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ED9F-9E73-4B77-AB75-FC3D82B8426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5CFD-19D8-48BE-B9CE-ADB1F10E789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F59C-A53B-4791-B821-9D9BA791A0D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: Bryce But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Alexis Mar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dvantages and Disadvantage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vantages: The fuel is cheap when we use biomass. There is waste everywhere and we should never run ou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advantages: The gas from a greenhouse which pollutes the air. Sometimes, people grow biomass where we grow food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How does Biomass generate electricity???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iomass takes garbage and burns it in a fire box and the heat from the burning garbage boils the water in a boiler. The steam goes through tubes. Then it goes to turbines. The jet hit the blade and starts the generator. The coil of wire starts to turn which is surrounded by a magnet. Then it starts electrici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ther Us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57200" y="17524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mass is used for heating, cooking, burning, and also used to produce electri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istory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iomass covers the entire life of Earth. People used to use biomass to grow crops. Biomass came from the word wildfire. Biomass was used even when caveman were around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mportant Charts or Diagra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286000" y="1371600"/>
            <a:ext cx="40734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itation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t picture Google. 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Google. 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NK YOU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8:49:20Z</dcterms:created>
  <dc:creator>Owner</dc:creator>
  <dc:description/>
  <dc:language>en-US</dc:language>
  <cp:lastModifiedBy>amaren</cp:lastModifiedBy>
  <dcterms:modified xsi:type="dcterms:W3CDTF">2011-04-29T18:19:51Z</dcterms:modified>
  <cp:revision>5</cp:revision>
  <dc:subject/>
  <dc:title>Biomass</dc:title>
</cp:coreProperties>
</file>